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D7C8-B8FE-4654-B66D-62AE37E6F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CD18-FE7D-4278-ADB5-60819C4CC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2B03-65BA-4E6E-98AC-4727CD12D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4772-A5A0-4474-918A-B499CC162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49CB-EFF3-4FE5-9E97-A3B0D43EC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BF11-9339-4610-8989-231A02F23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61A0-04FE-4152-A2BE-811D96735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2D5D-3952-4F58-B1E4-12C72CD16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B35B-8B5F-4373-BA06-363E73E86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FD89-3498-49B0-841E-808361F5E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B389-C35E-4F80-B733-1B12AEB49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E61B-6F43-4F5E-8B92-C0397CEA4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ACB-C772-4E3E-9457-F7BAB0A0886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0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Cash Receipts Using a Cash Receipts Journa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SALE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29000" y="1600200"/>
            <a:ext cx="2286000" cy="1836720"/>
            <a:chOff x="3429000" y="1600200"/>
            <a:chExt cx="2286000" cy="1836720"/>
          </a:xfrm>
        </p:grpSpPr>
        <p:pic>
          <p:nvPicPr>
            <p:cNvPr id="93" name="C21_blue_1010b" descr=""/>
            <p:cNvPicPr/>
            <p:nvPr/>
          </p:nvPicPr>
          <p:blipFill>
            <a:blip r:embed="rId1"/>
            <a:stretch/>
          </p:blipFill>
          <p:spPr>
            <a:xfrm>
              <a:off x="3757680" y="2405160"/>
              <a:ext cx="1434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9000" y="1600200"/>
              <a:ext cx="22860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C (Universal Product Co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7200" y="1600200"/>
            <a:ext cx="2286000" cy="3336480"/>
            <a:chOff x="457200" y="1600200"/>
            <a:chExt cx="2286000" cy="3336480"/>
          </a:xfrm>
        </p:grpSpPr>
        <p:pic>
          <p:nvPicPr>
            <p:cNvPr id="96" name="C21_blue_1010a" descr=""/>
            <p:cNvPicPr/>
            <p:nvPr/>
          </p:nvPicPr>
          <p:blipFill>
            <a:blip r:embed="rId2"/>
            <a:stretch/>
          </p:blipFill>
          <p:spPr>
            <a:xfrm>
              <a:off x="457200" y="2404800"/>
              <a:ext cx="2286000" cy="25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" y="1600200"/>
              <a:ext cx="22860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 Register Rece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400800" y="1600200"/>
            <a:ext cx="2286000" cy="3768840"/>
            <a:chOff x="6400800" y="1600200"/>
            <a:chExt cx="2286000" cy="3768840"/>
          </a:xfrm>
        </p:grpSpPr>
        <p:pic>
          <p:nvPicPr>
            <p:cNvPr id="99" name="C21_blue_1010c" descr=""/>
            <p:cNvPicPr/>
            <p:nvPr/>
          </p:nvPicPr>
          <p:blipFill>
            <a:blip r:embed="rId3"/>
            <a:srcRect l="0" t="0" r="1803" b="0"/>
            <a:stretch/>
          </p:blipFill>
          <p:spPr>
            <a:xfrm>
              <a:off x="6400800" y="2405160"/>
              <a:ext cx="228600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400800" y="1600200"/>
              <a:ext cx="22860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-of-Sale (POS) Terminal Rece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83920" y="600192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(continued on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88E3-298F-46B3-96AC-BB5B377CAF63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SALE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1531800"/>
            <a:ext cx="4114800" cy="4716720"/>
            <a:chOff x="457200" y="1531800"/>
            <a:chExt cx="4114800" cy="4716720"/>
          </a:xfrm>
        </p:grpSpPr>
        <p:pic>
          <p:nvPicPr>
            <p:cNvPr id="105" name="C21_blue_1010d" descr=""/>
            <p:cNvPicPr/>
            <p:nvPr/>
          </p:nvPicPr>
          <p:blipFill>
            <a:blip r:embed="rId1"/>
            <a:srcRect l="3298" t="0" r="3658" b="3500"/>
            <a:stretch/>
          </p:blipFill>
          <p:spPr>
            <a:xfrm>
              <a:off x="457200" y="1531800"/>
              <a:ext cx="2286000" cy="47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286000" y="1614600"/>
              <a:ext cx="22860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l Summ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76920" y="1600200"/>
            <a:ext cx="3809880" cy="4025880"/>
            <a:chOff x="4876920" y="1600200"/>
            <a:chExt cx="3809880" cy="4025880"/>
          </a:xfrm>
        </p:grpSpPr>
        <p:pic>
          <p:nvPicPr>
            <p:cNvPr id="108" name="C21_blue_1010e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2286000" cy="40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00800" y="2362320"/>
              <a:ext cx="22860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ch 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305680" y="6001920"/>
            <a:ext cx="338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(continued from previous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F04F-7EF0-497B-9579-80216940A71F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RECEIPT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C21_blue_1011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61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CF08-9E5F-4DC0-BEEA-128C3D009DA6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AND CREDIT CARD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C21_blue_1012" descr=""/>
          <p:cNvPicPr/>
          <p:nvPr/>
        </p:nvPicPr>
        <p:blipFill>
          <a:blip r:embed="rId1"/>
          <a:srcRect l="0" t="0" r="0" b="19941"/>
          <a:stretch/>
        </p:blipFill>
        <p:spPr>
          <a:xfrm>
            <a:off x="304920" y="2209680"/>
            <a:ext cx="853416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C21_blue_1013" descr=""/>
          <p:cNvPicPr/>
          <p:nvPr/>
        </p:nvPicPr>
        <p:blipFill>
          <a:blip r:embed="rId2"/>
          <a:stretch/>
        </p:blipFill>
        <p:spPr>
          <a:xfrm>
            <a:off x="6172200" y="3967200"/>
            <a:ext cx="2666880" cy="197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5756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108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188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4. Recorded cash and credit card sales, $5,460.00, plus sales tax, $327.60; total, $5,787.60. Terminal Summary 3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39240" y="38703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44280" y="4213080"/>
            <a:ext cx="66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46440" y="4556160"/>
            <a:ext cx="65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erminal summary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44640" y="4898880"/>
            <a:ext cx="62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41040" y="5241960"/>
            <a:ext cx="38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ales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2120" y="5584680"/>
            <a:ext cx="42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ales tax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1760" y="5927760"/>
            <a:ext cx="38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as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09080" y="33116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4CCD-19A7-4BAF-AC19-AC5FC515DC56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RECEIPT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C21_blue_1014" descr=""/>
          <p:cNvPicPr/>
          <p:nvPr/>
        </p:nvPicPr>
        <p:blipFill>
          <a:blip r:embed="rId1"/>
          <a:srcRect l="833" t="0" r="800" b="0"/>
          <a:stretch/>
        </p:blipFill>
        <p:spPr>
          <a:xfrm>
            <a:off x="304920" y="2209680"/>
            <a:ext cx="8534160" cy="204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328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358128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18440" y="3581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6. Received cash on account from Country Crafters, $2,162.40, covering S69. Receipt No. 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9240" y="447048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42480" y="4835520"/>
            <a:ext cx="43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ustomer’s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42120" y="5199120"/>
            <a:ext cx="40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receip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1400" y="5564160"/>
            <a:ext cx="39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0680" y="5927760"/>
            <a:ext cx="38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CD22-E570-4838-9EF0-FC6F7D58BB82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IZING CASH RECEIPTS ON ACCOUNT WITH SALES DIS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C21_blue_1017" descr=""/>
          <p:cNvPicPr/>
          <p:nvPr/>
        </p:nvPicPr>
        <p:blipFill>
          <a:blip r:embed="rId1"/>
          <a:srcRect l="450" t="0" r="1061" b="13161"/>
          <a:stretch/>
        </p:blipFill>
        <p:spPr>
          <a:xfrm>
            <a:off x="304920" y="2556000"/>
            <a:ext cx="85341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288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48400" y="3886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48680" y="3886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495440"/>
            <a:ext cx="77691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7. Received cash on account from Cumberland Center, $1,176.00, covering Sales Invoice No. 74 for $1,200.00, less 2% discount, $24.00. Receipt No. 9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76400" y="4581360"/>
            <a:ext cx="49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original invoic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39240" y="4581360"/>
            <a:ext cx="28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2480" y="4943520"/>
            <a:ext cx="43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ustomer’s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2120" y="5315040"/>
            <a:ext cx="40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receip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74240" y="49435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mount of sales dis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76760" y="5318280"/>
            <a:ext cx="38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to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D360-F224-41D6-8E30-BB7A6D32E00C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NG, PROVING, AND RULING A CASH RECEIPT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C21_blue_1019" descr=""/>
          <p:cNvPicPr/>
          <p:nvPr/>
        </p:nvPicPr>
        <p:blipFill>
          <a:blip r:embed="rId1"/>
          <a:srcRect l="1058" t="0" r="800" b="0"/>
          <a:stretch/>
        </p:blipFill>
        <p:spPr>
          <a:xfrm>
            <a:off x="304920" y="1600200"/>
            <a:ext cx="8534160" cy="2038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75DE-BA2C-45E4-9AEF-8B556931F6EB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of-sale (POS)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1536-8767-44F4-9F5D-56A0E16AC448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48:16Z</dcterms:created>
  <dc:creator>M. C. McLaughlin</dc:creator>
  <dc:description/>
  <dc:language>en-US</dc:language>
  <cp:lastModifiedBy>M. C. McLaughlin</cp:lastModifiedBy>
  <dcterms:modified xsi:type="dcterms:W3CDTF">2005-04-22T22:06:23Z</dcterms:modified>
  <cp:revision>20</cp:revision>
  <dc:subject/>
  <dc:title>Lesson 10-1</dc:title>
</cp:coreProperties>
</file>